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817-626A-483C-A86C-B9CA4A428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43C9-D769-4535-812A-6F18D077C9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29A-5C25-4923-8431-79B351D6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3C4-6B41-477A-AC3D-4EB91802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320-3D89-4283-9398-D773926D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A0B-E082-4600-AC4A-F1206819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B620F-0C5D-4A40-A75A-AE101E31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E5508-2F02-401F-B2B4-087A7C1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250CF-1F03-4D3F-9789-B65C7FBB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84800-4113-4335-9155-2FD7079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2BE49-CD9D-482B-B345-78862A4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DDE5F-B909-4149-A59F-0257906C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4ABDE-4BBE-439A-B21A-2B198DA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D77-E811-456F-B444-183F73BF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8C782-DC8E-46D9-8819-01BE8AE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D8775-E0AA-444A-ABA6-D959E4FF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05F26-7DE2-40A2-96C0-A9BD64B9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90C83-3DC3-4E61-9708-C192D319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5BCB4-D9FD-4B77-B906-56CE88E2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6FC8D-4923-4D29-9830-05814B07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BAC83-1763-472E-8039-4AD8C43A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46A40-1073-4439-BCF5-ADF0FF29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139AC-74D5-48F4-95FB-694998D1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5A315-B1FF-44AE-90CA-9147C4C6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45F-9713-4401-87F9-D5489EAE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4BED7-AB7E-4BBB-976E-78FBC30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F55C9-F0EE-408A-9544-5866023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41230-3452-4341-8FF4-99275FC9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11DDA-AEED-45DF-9ACC-2330BEF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76044-0642-4CB5-90E3-E6FFB899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7133B-B224-4320-B7B3-13AA0A17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6AB8E-26DB-47D0-8139-EF3510AC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AF72B-8D21-4B2A-92C9-02FDEB86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765DE-34A4-4872-842A-2C500E9D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9A72F-4080-46A6-98EF-31666080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7F7-51FB-4CEC-8618-FB820A19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F053A-F192-4BA3-B60A-890BCF94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D3D5B-8102-488D-B7E8-36DF8606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31F0D-1182-4B1A-8C0A-BB320F76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FBF64-9F10-4773-BB96-8138C36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C49C8-D1D6-4C25-97A5-58C54C4C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841BA-D57E-4386-8675-1207CBE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AED3B-0826-4EB0-A1D2-8F2383D7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F654D-683C-4125-ADD9-5CFFF741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65B46-4481-4CBC-8EF4-E259C4AA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64F2D-8966-4F17-A502-4D26D829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404-C48E-49BF-BB71-03BD8575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92D79-4005-4F84-AD45-10D90482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8111B-34F6-4468-83DA-26FC1A28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40914-8C16-4FAD-A66A-FC84E099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359FB-8837-4B7C-864F-DAE1599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7B11D-6955-44B8-9372-664DB65A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66AAA-D510-404E-ACDA-962708B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BC0A4-4C85-41C9-BF51-D68ED43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D7684-6710-49BC-886D-8D4CA27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BC209-9E55-41A1-896F-5AD9D1F6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25633-2A6C-4467-A965-5165F081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094-6417-4BEC-8AC1-C2E88456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D5FCA-323D-421B-A20B-27657634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9E962-4F53-4C76-A20A-702D034B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6C230-480B-4EB9-81FF-9E2597A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37887-4DEC-47FD-8B5E-F11CACA8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26438-736E-44D0-9512-0DE11779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8FB1A-6E38-4C1C-BC15-C2CC624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C69A8-FA24-45CB-A4B0-A9274B94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BAA18-BA1E-4772-A264-6E099278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6F865-5ED4-49D4-A1F1-3C9FE503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44FCF-351C-4A5A-A225-803AA97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C5A-0165-4915-9BA5-2FF1C89E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AC1D8-6F2A-4BB5-B5DF-F7211245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384F6-426B-4887-93DE-8F585CA1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5B78E-5351-44B7-A7F4-5EA40D11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8F7-BA8F-41B9-89BA-8D4EA07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132-D18C-4A6F-A24A-C97DEB4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C80A-F1E8-4E08-8CF3-A13622884837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1A1B-DA5D-438E-B521-676F828A955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47A-6AC8-4BEF-8D03-4A52A8943D51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4D2-4B55-4789-ADC0-AAD35CBA4F8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1E21-B120-4DB3-B31D-7EB1C5348097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77FC-4202-4634-9679-55A57EA9590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292-3F93-49A5-B7AF-CBDD81772BB8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93D-CC65-45D6-BE71-EB1359F0669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779A-C87E-4580-A595-CEB010D19AA5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A21D-C686-45FA-A745-F00BE81BF95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CDF-78CC-4E8A-88D4-7853F2AAEE00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5AA6-1CDD-4761-AB41-69D455C8FBD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640" y="2924280"/>
            <a:ext cx="77025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Строение углеродного атома и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орбитальная гибридизация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Типы химических связе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органических соединени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Palatino Linotype"/>
              </a:rPr>
              <a:t>(сигма-, пи-,ароматические связи).</a:t>
            </a:r>
            <a:r>
              <a:rPr b="0" lang="ru-RU" sz="45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157-4B5D-44BB-B453-796AEEA943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2286000" y="2132640"/>
            <a:ext cx="5454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 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С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0" name="Прямая со стрелкой 7"/>
          <p:cNvCxnSpPr/>
          <p:nvPr/>
        </p:nvCxnSpPr>
        <p:spPr>
          <a:xfrm>
            <a:off x="4284360" y="241632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1" name="Прямоугольник 11"/>
          <p:cNvSpPr/>
          <p:nvPr/>
        </p:nvSpPr>
        <p:spPr>
          <a:xfrm>
            <a:off x="4306680" y="1916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36"/>
          <p:cNvSpPr/>
          <p:nvPr/>
        </p:nvSpPr>
        <p:spPr>
          <a:xfrm>
            <a:off x="7816680" y="4567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2"/>
          <p:cNvSpPr/>
          <p:nvPr/>
        </p:nvSpPr>
        <p:spPr>
          <a:xfrm>
            <a:off x="2198880" y="265104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лаб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лектрофи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ая соединительная линия 14"/>
          <p:cNvSpPr/>
          <p:nvPr/>
        </p:nvSpPr>
        <p:spPr>
          <a:xfrm>
            <a:off x="1933560" y="4915080"/>
            <a:ext cx="357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2311920" y="4734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ая соединительная линия 16"/>
          <p:cNvSpPr/>
          <p:nvPr/>
        </p:nvSpPr>
        <p:spPr>
          <a:xfrm>
            <a:off x="2690640" y="4915080"/>
            <a:ext cx="3574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ая соединительная линия 17"/>
          <p:cNvSpPr/>
          <p:nvPr/>
        </p:nvSpPr>
        <p:spPr>
          <a:xfrm flipH="1">
            <a:off x="2475000" y="4341960"/>
            <a:ext cx="1440" cy="3585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18"/>
          <p:cNvSpPr/>
          <p:nvPr/>
        </p:nvSpPr>
        <p:spPr>
          <a:xfrm>
            <a:off x="2476440" y="5127480"/>
            <a:ext cx="0" cy="358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3"/>
          <p:cNvSpPr/>
          <p:nvPr/>
        </p:nvSpPr>
        <p:spPr>
          <a:xfrm>
            <a:off x="232164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оугольник 3"/>
          <p:cNvSpPr/>
          <p:nvPr/>
        </p:nvSpPr>
        <p:spPr>
          <a:xfrm>
            <a:off x="2302560" y="5467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3"/>
          <p:cNvSpPr/>
          <p:nvPr/>
        </p:nvSpPr>
        <p:spPr>
          <a:xfrm>
            <a:off x="1343160" y="4734000"/>
            <a:ext cx="718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3033360" y="47340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3" name="Прямая со стрелкой 23"/>
          <p:cNvCxnSpPr/>
          <p:nvPr/>
        </p:nvCxnSpPr>
        <p:spPr>
          <a:xfrm>
            <a:off x="4853160" y="4946760"/>
            <a:ext cx="429120" cy="216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44" name="Прямоугольник 26"/>
          <p:cNvSpPr/>
          <p:nvPr/>
        </p:nvSpPr>
        <p:spPr>
          <a:xfrm>
            <a:off x="3537720" y="4734000"/>
            <a:ext cx="127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lCl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27"/>
          <p:cNvSpPr/>
          <p:nvPr/>
        </p:nvSpPr>
        <p:spPr>
          <a:xfrm>
            <a:off x="5408640" y="4726080"/>
            <a:ext cx="27158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 baseline="5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Cl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1258920" y="73512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электрофильных свой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г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12"/>
          <p:cNvSpPr/>
          <p:nvPr/>
        </p:nvSpPr>
        <p:spPr>
          <a:xfrm>
            <a:off x="5296320" y="262080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лектрофи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оугольник 12"/>
          <p:cNvSpPr/>
          <p:nvPr/>
        </p:nvSpPr>
        <p:spPr>
          <a:xfrm>
            <a:off x="1850040" y="5924520"/>
            <a:ext cx="115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лаб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12"/>
          <p:cNvSpPr/>
          <p:nvPr/>
        </p:nvSpPr>
        <p:spPr>
          <a:xfrm>
            <a:off x="5598360" y="5137200"/>
            <a:ext cx="129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3857040" y="5132520"/>
            <a:ext cx="129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979640" y="2592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ЭЛЕКТРОФИЛЬНЫЕ РЕАГЕ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B76-FFD9-41C3-AB6B-D8FD1C08FA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ая соединительная линия 26"/>
          <p:cNvSpPr/>
          <p:nvPr/>
        </p:nvSpPr>
        <p:spPr>
          <a:xfrm flipH="1">
            <a:off x="3265560" y="2055960"/>
            <a:ext cx="1440" cy="626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4"/>
          <p:cNvSpPr/>
          <p:nvPr/>
        </p:nvSpPr>
        <p:spPr>
          <a:xfrm>
            <a:off x="1367640" y="207972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2089080" y="2055960"/>
            <a:ext cx="2330640" cy="626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ая соединительная линия 31"/>
          <p:cNvSpPr/>
          <p:nvPr/>
        </p:nvSpPr>
        <p:spPr>
          <a:xfrm flipH="1">
            <a:off x="2650680" y="1765440"/>
            <a:ext cx="1800" cy="1252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ая соединительная линия 32"/>
          <p:cNvSpPr/>
          <p:nvPr/>
        </p:nvSpPr>
        <p:spPr>
          <a:xfrm flipH="1">
            <a:off x="3854160" y="2055960"/>
            <a:ext cx="3240" cy="626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56"/>
          <p:cNvSpPr/>
          <p:nvPr/>
        </p:nvSpPr>
        <p:spPr>
          <a:xfrm>
            <a:off x="4757040" y="177012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акантная орбит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ая соединительная линия 37"/>
          <p:cNvSpPr/>
          <p:nvPr/>
        </p:nvSpPr>
        <p:spPr>
          <a:xfrm flipV="1">
            <a:off x="4286160" y="1974960"/>
            <a:ext cx="563760" cy="312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81"/>
          <p:cNvSpPr/>
          <p:nvPr/>
        </p:nvSpPr>
        <p:spPr>
          <a:xfrm>
            <a:off x="928800" y="3803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37"/>
          <p:cNvSpPr/>
          <p:nvPr/>
        </p:nvSpPr>
        <p:spPr>
          <a:xfrm>
            <a:off x="985320" y="3979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37"/>
          <p:cNvSpPr/>
          <p:nvPr/>
        </p:nvSpPr>
        <p:spPr>
          <a:xfrm>
            <a:off x="1001160" y="345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37"/>
          <p:cNvSpPr/>
          <p:nvPr/>
        </p:nvSpPr>
        <p:spPr>
          <a:xfrm>
            <a:off x="1287000" y="369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3" name="Прямая со стрелкой 86"/>
          <p:cNvCxnSpPr/>
          <p:nvPr/>
        </p:nvCxnSpPr>
        <p:spPr>
          <a:xfrm>
            <a:off x="2928600" y="401796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64" name="Прямая со стрелкой 87"/>
          <p:cNvCxnSpPr/>
          <p:nvPr/>
        </p:nvCxnSpPr>
        <p:spPr>
          <a:xfrm>
            <a:off x="5071680" y="394668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5" name="Прямоугольник 21"/>
          <p:cNvSpPr/>
          <p:nvPr/>
        </p:nvSpPr>
        <p:spPr>
          <a:xfrm>
            <a:off x="1643040" y="38037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∙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21"/>
          <p:cNvSpPr/>
          <p:nvPr/>
        </p:nvSpPr>
        <p:spPr>
          <a:xfrm>
            <a:off x="3730320" y="431496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90"/>
          <p:cNvSpPr/>
          <p:nvPr/>
        </p:nvSpPr>
        <p:spPr>
          <a:xfrm>
            <a:off x="3635280" y="37638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91"/>
          <p:cNvSpPr/>
          <p:nvPr/>
        </p:nvSpPr>
        <p:spPr>
          <a:xfrm>
            <a:off x="3753000" y="393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92"/>
          <p:cNvSpPr/>
          <p:nvPr/>
        </p:nvSpPr>
        <p:spPr>
          <a:xfrm>
            <a:off x="3753000" y="3424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21"/>
          <p:cNvSpPr/>
          <p:nvPr/>
        </p:nvSpPr>
        <p:spPr>
          <a:xfrm>
            <a:off x="4287600" y="37638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21"/>
          <p:cNvSpPr/>
          <p:nvPr/>
        </p:nvSpPr>
        <p:spPr>
          <a:xfrm>
            <a:off x="3739680" y="32590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Группа 96"/>
          <p:cNvGrpSpPr/>
          <p:nvPr/>
        </p:nvGrpSpPr>
        <p:grpSpPr>
          <a:xfrm>
            <a:off x="6310440" y="3089160"/>
            <a:ext cx="1256040" cy="1855080"/>
            <a:chOff x="6310440" y="3089160"/>
            <a:chExt cx="1256040" cy="1855080"/>
          </a:xfrm>
        </p:grpSpPr>
        <p:sp>
          <p:nvSpPr>
            <p:cNvPr id="473" name="Прямоугольник 21"/>
            <p:cNvSpPr/>
            <p:nvPr/>
          </p:nvSpPr>
          <p:spPr>
            <a:xfrm>
              <a:off x="6455880" y="448452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Box 98"/>
            <p:cNvSpPr/>
            <p:nvPr/>
          </p:nvSpPr>
          <p:spPr>
            <a:xfrm>
              <a:off x="6310440" y="377028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I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Box 99"/>
            <p:cNvSpPr/>
            <p:nvPr/>
          </p:nvSpPr>
          <p:spPr>
            <a:xfrm>
              <a:off x="6453000" y="401796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Box 100"/>
            <p:cNvSpPr/>
            <p:nvPr/>
          </p:nvSpPr>
          <p:spPr>
            <a:xfrm>
              <a:off x="6453000" y="33415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оугольник 21"/>
            <p:cNvSpPr/>
            <p:nvPr/>
          </p:nvSpPr>
          <p:spPr>
            <a:xfrm>
              <a:off x="7099200" y="37702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оугольник 21"/>
            <p:cNvSpPr/>
            <p:nvPr/>
          </p:nvSpPr>
          <p:spPr>
            <a:xfrm>
              <a:off x="6455880" y="308916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Прямоугольник 21"/>
          <p:cNvSpPr/>
          <p:nvPr/>
        </p:nvSpPr>
        <p:spPr>
          <a:xfrm>
            <a:off x="5813280" y="37702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Двойные круглые скобки 104"/>
          <p:cNvSpPr/>
          <p:nvPr/>
        </p:nvSpPr>
        <p:spPr>
          <a:xfrm>
            <a:off x="5715000" y="3089160"/>
            <a:ext cx="2000160" cy="1785960"/>
          </a:xfrm>
          <a:prstGeom prst="bracketPair">
            <a:avLst>
              <a:gd name="adj" fmla="val 17129"/>
            </a:avLst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33"/>
          <p:cNvSpPr/>
          <p:nvPr/>
        </p:nvSpPr>
        <p:spPr>
          <a:xfrm flipV="1">
            <a:off x="2340000" y="214596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4"/>
          <p:cNvSpPr/>
          <p:nvPr/>
        </p:nvSpPr>
        <p:spPr>
          <a:xfrm flipV="1">
            <a:off x="2916360" y="214596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 flipV="1">
            <a:off x="3506760" y="214776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21"/>
          <p:cNvSpPr/>
          <p:nvPr/>
        </p:nvSpPr>
        <p:spPr>
          <a:xfrm>
            <a:off x="4992480" y="337032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21"/>
          <p:cNvSpPr/>
          <p:nvPr/>
        </p:nvSpPr>
        <p:spPr>
          <a:xfrm>
            <a:off x="5294160" y="3225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7742160" y="300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56"/>
          <p:cNvSpPr/>
          <p:nvPr/>
        </p:nvSpPr>
        <p:spPr>
          <a:xfrm>
            <a:off x="1332000" y="476280"/>
            <a:ext cx="6264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лорид алюми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акцептор электронной пары (сильный электрофи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41"/>
          <p:cNvSpPr/>
          <p:nvPr/>
        </p:nvSpPr>
        <p:spPr>
          <a:xfrm>
            <a:off x="826920" y="3946680"/>
            <a:ext cx="144720" cy="14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42"/>
          <p:cNvSpPr/>
          <p:nvPr/>
        </p:nvSpPr>
        <p:spPr>
          <a:xfrm>
            <a:off x="3635280" y="3916440"/>
            <a:ext cx="144720" cy="1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814-17C7-4037-BDF9-EABD1AF79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357120" y="1429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609480" y="2253240"/>
            <a:ext cx="785016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ьные нуклеофил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к ним относятся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Н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анионы с высоким сродством к протону (основания); анионы, являющиеся остатками слабых кислот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Н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СН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H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С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(фенолят ион), 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СН</a:t>
            </a:r>
            <a:r>
              <a:rPr b="0" lang="ru-RU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и другие отрицательно заряженные остатки,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(гидрид-ион). Кроме того к сильным нуклеофилам относят нейтральные молекулы с неподелённой электронной парой такие, как  аммиак, амины, вода, спирты (см. след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3421800" y="4762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755640" y="981360"/>
            <a:ext cx="7416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Нуклеофилы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атомы или молекулы, обладающие центрами с избыточной электронной плот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7EE-1B58-43BC-970E-BC6DB8A68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12"/>
          <p:cNvSpPr/>
          <p:nvPr/>
        </p:nvSpPr>
        <p:spPr>
          <a:xfrm>
            <a:off x="611280" y="4292640"/>
            <a:ext cx="807228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 ним относятся анионы, являющиеся остатками сильных 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HS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C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H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755640" y="836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ы нейтральных молекул с сильными нуклеофильными свойств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21"/>
          <p:cNvGrpSpPr/>
          <p:nvPr/>
        </p:nvGrpSpPr>
        <p:grpSpPr>
          <a:xfrm>
            <a:off x="611280" y="1544760"/>
            <a:ext cx="7715160" cy="1599480"/>
            <a:chOff x="611280" y="1544760"/>
            <a:chExt cx="7715160" cy="1599480"/>
          </a:xfrm>
        </p:grpSpPr>
        <p:sp>
          <p:nvSpPr>
            <p:cNvPr id="498" name="Rectangle 3"/>
            <p:cNvSpPr/>
            <p:nvPr/>
          </p:nvSpPr>
          <p:spPr>
            <a:xfrm>
              <a:off x="611280" y="1812960"/>
              <a:ext cx="7715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H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: , эфиры: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 NH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H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,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H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,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OR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и др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оугольник 61"/>
            <p:cNvSpPr/>
            <p:nvPr/>
          </p:nvSpPr>
          <p:spPr>
            <a:xfrm>
              <a:off x="5853240" y="1560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Прямоугольник 61"/>
            <p:cNvSpPr/>
            <p:nvPr/>
          </p:nvSpPr>
          <p:spPr>
            <a:xfrm>
              <a:off x="1303200" y="154476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Прямоугольник 61"/>
            <p:cNvSpPr/>
            <p:nvPr/>
          </p:nvSpPr>
          <p:spPr>
            <a:xfrm>
              <a:off x="2382840" y="15732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Прямоугольник 61"/>
            <p:cNvSpPr/>
            <p:nvPr/>
          </p:nvSpPr>
          <p:spPr>
            <a:xfrm>
              <a:off x="6962760" y="157464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Прямоугольник 61"/>
            <p:cNvSpPr/>
            <p:nvPr/>
          </p:nvSpPr>
          <p:spPr>
            <a:xfrm>
              <a:off x="4572000" y="15588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Прямоугольник 61"/>
            <p:cNvSpPr/>
            <p:nvPr/>
          </p:nvSpPr>
          <p:spPr>
            <a:xfrm>
              <a:off x="3635280" y="26686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Прямоугольник 61"/>
            <p:cNvSpPr/>
            <p:nvPr/>
          </p:nvSpPr>
          <p:spPr>
            <a:xfrm>
              <a:off x="4471920" y="26845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Прямоугольник 61"/>
            <p:cNvSpPr/>
            <p:nvPr/>
          </p:nvSpPr>
          <p:spPr>
            <a:xfrm>
              <a:off x="3592440" y="232236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Прямоугольник 61"/>
            <p:cNvSpPr/>
            <p:nvPr/>
          </p:nvSpPr>
          <p:spPr>
            <a:xfrm>
              <a:off x="4427640" y="23083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Rectangle 19"/>
          <p:cNvSpPr/>
          <p:nvPr/>
        </p:nvSpPr>
        <p:spPr>
          <a:xfrm>
            <a:off x="53964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АБЫЕ НУКЛЕОФИЛ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3421800" y="33336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НУКЛЕОФИ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0A5-29CC-42DF-906E-A606262F7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75564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4"/>
          <p:cNvSpPr/>
          <p:nvPr/>
        </p:nvSpPr>
        <p:spPr>
          <a:xfrm>
            <a:off x="642960" y="13050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видно из рассмотренных примеров, нуклеофилы в то же время являются основаниями. Основание – вещество, предоставляющее пару электронов для образования ковалентной связи с протонами (По Льюис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им образом, и основание и нуклеофил – это доноры электронных пар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овательно все основания являются нуклеофилами, поэтому следует различать такие свойства, как: основность частицы (сродство к протону), нуклеофильность (способность образовывать связь с электрофильным атомом углеро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26160" y="73980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Ы И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63D-0375-4135-B39C-7962238E4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714240" y="1172520"/>
            <a:ext cx="792972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уклеофильность зависит от электронной плотности на атакуемом ат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уклеофи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функция зависящая от основности и поляризуем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Если поляризуемость почти не изменяется, т.е когда нуклеофильным центром выступает один и тот же атом, то нуклеофильность есть функция от основ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ания в ряд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H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C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основность возраст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ость = нуклеофи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O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&gt;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     &gt;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3"/>
          <p:cNvSpPr/>
          <p:nvPr/>
        </p:nvSpPr>
        <p:spPr>
          <a:xfrm>
            <a:off x="75564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1478160" y="73980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ЬНОСТЬ И ОСНОВ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140-390D-41C8-8CFD-33DAC353F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4"/>
          <p:cNvSpPr/>
          <p:nvPr/>
        </p:nvSpPr>
        <p:spPr>
          <a:xfrm>
            <a:off x="611280" y="141300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Если нуклеофильные центры разные, то в этом случае нуклеофильность будет функцией поляризуемости, на пример,  в ря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&lt;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−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ость снижается, нуклеофильность падает, т.к. в таком направлении растёт поляризуе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адикальные частицы всегда нейтральные, но имеют в наличии неспаренный электр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дикал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лектрически нейтральные част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3"/>
          <p:cNvSpPr/>
          <p:nvPr/>
        </p:nvSpPr>
        <p:spPr>
          <a:xfrm>
            <a:off x="755640" y="18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478160" y="73980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УКЛЕОФИЛЬНОСТЬ И ОСНОВ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51F-FB19-4385-BC84-F4EAE4DC7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3"/>
          <p:cNvSpPr/>
          <p:nvPr/>
        </p:nvSpPr>
        <p:spPr>
          <a:xfrm>
            <a:off x="1006560" y="23004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МЕЖУТОЧНЫЕ ПРОДУКТЫ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ИНТЕРМЕДИА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"/>
          <p:cNvSpPr/>
          <p:nvPr/>
        </p:nvSpPr>
        <p:spPr>
          <a:xfrm>
            <a:off x="857160" y="35733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о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– частицы, несущие электрический заряд; их два сор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755640" y="45813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рбкати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органические ионы, содержащие положительно заряженный атом угле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785880" y="544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рбанионы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органические ионы с отрицательно заряженным атомом угле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684360" y="227664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вободный радика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атом или группа, имеющие нечетный (неспаренный) электрон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дикаль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лектрическ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йтраль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ас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684360" y="1143000"/>
            <a:ext cx="80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отекание многих органических реакций сопро-вождается образованием промежуточных продуктов: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адикалов и ион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23C-CB20-4A64-85CF-0AE66785B2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1042920" y="105264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ЕТОДЫ ГЕНЕРИРОВАНИЯ (ОБРАЗОВАНИЯ) ИОН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РАДИКА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8"/>
          <p:cNvSpPr/>
          <p:nvPr/>
        </p:nvSpPr>
        <p:spPr>
          <a:xfrm>
            <a:off x="5699160" y="26701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684360" y="3876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   – С 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– С: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−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9" name="Прямая со стрелкой 13"/>
          <p:cNvCxnSpPr/>
          <p:nvPr/>
        </p:nvCxnSpPr>
        <p:spPr>
          <a:xfrm>
            <a:off x="2579400" y="4160880"/>
            <a:ext cx="6037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0" name="TextBox 11"/>
          <p:cNvSpPr/>
          <p:nvPr/>
        </p:nvSpPr>
        <p:spPr>
          <a:xfrm>
            <a:off x="1438200" y="357336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                             \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1403280" y="422100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2"/>
          <p:cNvSpPr/>
          <p:nvPr/>
        </p:nvSpPr>
        <p:spPr>
          <a:xfrm>
            <a:off x="2124000" y="3759120"/>
            <a:ext cx="0" cy="7318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5786280" y="38606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Group 19"/>
          <p:cNvGrpSpPr/>
          <p:nvPr/>
        </p:nvGrpSpPr>
        <p:grpSpPr>
          <a:xfrm>
            <a:off x="730080" y="2313000"/>
            <a:ext cx="4429440" cy="1071000"/>
            <a:chOff x="730080" y="2313000"/>
            <a:chExt cx="4429440" cy="1071000"/>
          </a:xfrm>
        </p:grpSpPr>
        <p:sp>
          <p:nvSpPr>
            <p:cNvPr id="535" name="TextBox 2"/>
            <p:cNvSpPr/>
            <p:nvPr/>
          </p:nvSpPr>
          <p:spPr>
            <a:xfrm>
              <a:off x="730080" y="2649600"/>
              <a:ext cx="44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    – С :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– С</a:t>
              </a:r>
              <a:r>
                <a:rPr b="1" lang="ru-RU" sz="24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: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−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"/>
            <p:cNvSpPr/>
            <p:nvPr/>
          </p:nvSpPr>
          <p:spPr>
            <a:xfrm>
              <a:off x="1941480" y="2581200"/>
              <a:ext cx="0" cy="73188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565280" y="2313000"/>
              <a:ext cx="299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\                       \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Box 7"/>
            <p:cNvSpPr/>
            <p:nvPr/>
          </p:nvSpPr>
          <p:spPr>
            <a:xfrm>
              <a:off x="1547640" y="2924280"/>
              <a:ext cx="31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/                  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9" name="Прямая со стрелкой 18"/>
            <p:cNvCxnSpPr/>
            <p:nvPr/>
          </p:nvCxnSpPr>
          <p:spPr>
            <a:xfrm>
              <a:off x="2714400" y="2927520"/>
              <a:ext cx="57204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540" name="Rectangle 4"/>
          <p:cNvSpPr/>
          <p:nvPr/>
        </p:nvSpPr>
        <p:spPr>
          <a:xfrm>
            <a:off x="2484360" y="504684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          Br• 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Прямая со стрелкой 27"/>
          <p:cNvCxnSpPr/>
          <p:nvPr/>
        </p:nvCxnSpPr>
        <p:spPr>
          <a:xfrm>
            <a:off x="4036680" y="5446800"/>
            <a:ext cx="42948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2" name="Прямоугольник 7"/>
          <p:cNvSpPr/>
          <p:nvPr/>
        </p:nvSpPr>
        <p:spPr>
          <a:xfrm>
            <a:off x="3995640" y="49417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828360" y="5227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3132000" y="57344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4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H▪ + ▪Br = H–B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6E2-2F2D-4A94-8D2B-0E8BF0C5F8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1042920" y="105120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КЛАССИФИКАЦИЯ РЕАКЦИЙ ПО МЕХАНИЗМУ ЭЛЕМЕНТАРНЫХ СТАД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5280" y="227808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наиболее сложный тип, классифицирующий реакции. Он соответствует двум предыдущ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755640" y="3110400"/>
            <a:ext cx="2571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0488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По результату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1"/>
          <p:cNvSpPr/>
          <p:nvPr/>
        </p:nvSpPr>
        <p:spPr>
          <a:xfrm>
            <a:off x="500040" y="4057560"/>
            <a:ext cx="7929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0488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Замещен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Электрофильн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Е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0488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0488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Присоединен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2. Нуклеофильн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3851280" y="3110400"/>
            <a:ext cx="4962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0488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По электронной природе реагента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539640" y="53726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Отщип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13"/>
          <p:cNvSpPr/>
          <p:nvPr/>
        </p:nvSpPr>
        <p:spPr>
          <a:xfrm>
            <a:off x="4572360" y="5326200"/>
            <a:ext cx="29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адикальны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1F5-7534-448F-ABAA-6C3C5A5BC9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35712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571680" y="115668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Химические реакции могут классифицироваться по разным принципам. Для многих органических реакций наиболее важная классификация по следующим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787320" y="2635200"/>
            <a:ext cx="75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По изменению числа частиц в ходе реакций (т.е. по результатам проведения). В соответствии с этим признаком различаю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Группа 13"/>
          <p:cNvGrpSpPr/>
          <p:nvPr/>
        </p:nvGrpSpPr>
        <p:grpSpPr>
          <a:xfrm>
            <a:off x="2710800" y="5877000"/>
            <a:ext cx="5171760" cy="525600"/>
            <a:chOff x="2710800" y="5877000"/>
            <a:chExt cx="5171760" cy="525600"/>
          </a:xfrm>
        </p:grpSpPr>
        <p:sp>
          <p:nvSpPr>
            <p:cNvPr id="324" name="Прямоугольник 7"/>
            <p:cNvSpPr/>
            <p:nvPr/>
          </p:nvSpPr>
          <p:spPr>
            <a:xfrm>
              <a:off x="2710800" y="5877000"/>
              <a:ext cx="517176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= 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– 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– СН</a:t>
              </a:r>
              <a:r>
                <a:rPr b="1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–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25" name="Прямая со стрелкой 8"/>
            <p:cNvCxnSpPr/>
            <p:nvPr/>
          </p:nvCxnSpPr>
          <p:spPr>
            <a:xfrm>
              <a:off x="4358880" y="6091200"/>
              <a:ext cx="50076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326" name="TextBox 10"/>
          <p:cNvSpPr/>
          <p:nvPr/>
        </p:nvSpPr>
        <p:spPr>
          <a:xfrm>
            <a:off x="826920" y="4724280"/>
            <a:ext cx="22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Общая схем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1043640" y="393372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Реакции присоеди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3510000" y="4738680"/>
            <a:ext cx="418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 +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XY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→  –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6337440" y="5302080"/>
            <a:ext cx="1017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Group 25"/>
          <p:cNvGrpSpPr/>
          <p:nvPr/>
        </p:nvGrpSpPr>
        <p:grpSpPr>
          <a:xfrm>
            <a:off x="3348000" y="4746600"/>
            <a:ext cx="228600" cy="436680"/>
            <a:chOff x="3348000" y="4746600"/>
            <a:chExt cx="228600" cy="436680"/>
          </a:xfrm>
        </p:grpSpPr>
        <p:sp>
          <p:nvSpPr>
            <p:cNvPr id="331" name="Line 20"/>
            <p:cNvSpPr/>
            <p:nvPr/>
          </p:nvSpPr>
          <p:spPr>
            <a:xfrm>
              <a:off x="3348000" y="4746600"/>
              <a:ext cx="21564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V="1">
              <a:off x="3360600" y="5038560"/>
              <a:ext cx="216000" cy="14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24"/>
          <p:cNvGrpSpPr/>
          <p:nvPr/>
        </p:nvGrpSpPr>
        <p:grpSpPr>
          <a:xfrm>
            <a:off x="4393800" y="4738680"/>
            <a:ext cx="228600" cy="436680"/>
            <a:chOff x="4393800" y="4738680"/>
            <a:chExt cx="228600" cy="436680"/>
          </a:xfrm>
        </p:grpSpPr>
        <p:sp>
          <p:nvSpPr>
            <p:cNvPr id="334" name="Line 22"/>
            <p:cNvSpPr/>
            <p:nvPr/>
          </p:nvSpPr>
          <p:spPr>
            <a:xfrm flipH="1">
              <a:off x="4406400" y="4738680"/>
              <a:ext cx="21600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3"/>
            <p:cNvSpPr/>
            <p:nvPr/>
          </p:nvSpPr>
          <p:spPr>
            <a:xfrm flipH="1" flipV="1">
              <a:off x="4393800" y="5030640"/>
              <a:ext cx="216000" cy="14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Line 26"/>
          <p:cNvSpPr/>
          <p:nvPr/>
        </p:nvSpPr>
        <p:spPr>
          <a:xfrm>
            <a:off x="6516720" y="458136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7"/>
          <p:cNvSpPr/>
          <p:nvPr/>
        </p:nvSpPr>
        <p:spPr>
          <a:xfrm>
            <a:off x="7020000" y="458136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8"/>
          <p:cNvSpPr/>
          <p:nvPr/>
        </p:nvSpPr>
        <p:spPr>
          <a:xfrm>
            <a:off x="6516720" y="513252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9"/>
          <p:cNvSpPr/>
          <p:nvPr/>
        </p:nvSpPr>
        <p:spPr>
          <a:xfrm>
            <a:off x="7020000" y="513252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0"/>
          <p:cNvSpPr/>
          <p:nvPr/>
        </p:nvSpPr>
        <p:spPr>
          <a:xfrm>
            <a:off x="826920" y="5661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4352760" y="5654520"/>
            <a:ext cx="57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D03-4C36-43DB-A1B0-7406B7151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92880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Гомологический (радикальный) разрыв ковалентной связ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696960" y="2214720"/>
            <a:ext cx="43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В            А•  +  •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2"/>
          <p:cNvGrpSpPr/>
          <p:nvPr/>
        </p:nvGrpSpPr>
        <p:grpSpPr>
          <a:xfrm>
            <a:off x="2404800" y="2642760"/>
            <a:ext cx="1158840" cy="182520"/>
            <a:chOff x="2404800" y="2642760"/>
            <a:chExt cx="1158840" cy="182520"/>
          </a:xfrm>
        </p:grpSpPr>
        <p:sp>
          <p:nvSpPr>
            <p:cNvPr id="557" name="Line 3"/>
            <p:cNvSpPr/>
            <p:nvPr/>
          </p:nvSpPr>
          <p:spPr>
            <a:xfrm flipH="1" flipV="1">
              <a:off x="2404800" y="2642760"/>
              <a:ext cx="57924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4"/>
            <p:cNvSpPr/>
            <p:nvPr/>
          </p:nvSpPr>
          <p:spPr>
            <a:xfrm flipV="1">
              <a:off x="2984400" y="2642760"/>
              <a:ext cx="57924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TextBox 10"/>
          <p:cNvSpPr/>
          <p:nvPr/>
        </p:nvSpPr>
        <p:spPr>
          <a:xfrm>
            <a:off x="1692360" y="289548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радик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0" name="Прямая со стрелкой 12"/>
          <p:cNvCxnSpPr/>
          <p:nvPr/>
        </p:nvCxnSpPr>
        <p:spPr>
          <a:xfrm>
            <a:off x="1625400" y="2421000"/>
            <a:ext cx="643320" cy="216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61" name="TextBox 11"/>
          <p:cNvSpPr/>
          <p:nvPr/>
        </p:nvSpPr>
        <p:spPr>
          <a:xfrm>
            <a:off x="3929040" y="2000160"/>
            <a:ext cx="453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з схемы видно, что при этом способе связывающая электронная пара делится пополам между партнерами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"/>
          <p:cNvSpPr/>
          <p:nvPr/>
        </p:nvSpPr>
        <p:spPr>
          <a:xfrm>
            <a:off x="928800" y="40006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теролитический (ионный) разрыв ковалентной связ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395280" y="507204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В             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+  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В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2338560" y="5500440"/>
            <a:ext cx="1153440" cy="182520"/>
            <a:chOff x="2338560" y="5500440"/>
            <a:chExt cx="1153440" cy="182520"/>
          </a:xfrm>
        </p:grpSpPr>
        <p:sp>
          <p:nvSpPr>
            <p:cNvPr id="565" name="Line 3"/>
            <p:cNvSpPr/>
            <p:nvPr/>
          </p:nvSpPr>
          <p:spPr>
            <a:xfrm flipH="1" flipV="1">
              <a:off x="2338560" y="5500440"/>
              <a:ext cx="57672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4"/>
            <p:cNvSpPr/>
            <p:nvPr/>
          </p:nvSpPr>
          <p:spPr>
            <a:xfrm flipV="1">
              <a:off x="2915280" y="5500440"/>
              <a:ext cx="576720" cy="182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Box 10"/>
          <p:cNvSpPr/>
          <p:nvPr/>
        </p:nvSpPr>
        <p:spPr>
          <a:xfrm>
            <a:off x="1881360" y="5753160"/>
            <a:ext cx="11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и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Прямая со стрелкой 18"/>
          <p:cNvCxnSpPr/>
          <p:nvPr/>
        </p:nvCxnSpPr>
        <p:spPr>
          <a:xfrm>
            <a:off x="1336680" y="5285880"/>
            <a:ext cx="643320" cy="2520"/>
          </a:xfrm>
          <a:prstGeom prst="straightConnector1">
            <a:avLst/>
          </a:prstGeom>
          <a:ln w="158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69" name="TextBox 8"/>
          <p:cNvSpPr/>
          <p:nvPr/>
        </p:nvSpPr>
        <p:spPr>
          <a:xfrm>
            <a:off x="3929040" y="4857840"/>
            <a:ext cx="49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ри гетероциклическом взрыве связующая электронная пара целиком отходит к одному из партнеров, который приобретает отрицательный заряд (-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409-1109-4C49-9B11-23CF629B00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1"/>
          <p:cNvSpPr/>
          <p:nvPr/>
        </p:nvSpPr>
        <p:spPr>
          <a:xfrm>
            <a:off x="35712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13"/>
          <p:cNvSpPr/>
          <p:nvPr/>
        </p:nvSpPr>
        <p:spPr>
          <a:xfrm>
            <a:off x="571680" y="123156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генты, в органической химии, вступающие в реакцию, подразделяют на субстраты и реагенты. Какое из двух реагирующих веществ можно считать субстратом, а какое реагенто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соображение удобства. Обычно более сложное вещество называют субстратом (как правило, органическое вещество). Менее сложное – реактивом (неорганическое вещество). Если в реакции 2 органических вещества, то любое из них можно считать субстра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CDC-BAE6-4986-B6C2-BD805DFDD2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1"/>
          <p:cNvSpPr/>
          <p:nvPr/>
        </p:nvSpPr>
        <p:spPr>
          <a:xfrm>
            <a:off x="357120" y="1429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695880" y="114408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Классификация реакций по частным призна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571680" y="1801440"/>
            <a:ext cx="814356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называют в честь реаг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рим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идратация (реакция присоединения вод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идрогалогенирование (реакция присоединения галогеноводоро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егидротация (реакция отщепления вод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егидрогалогенирование (реакция отщепления галогеноводорода)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FB6-AE0D-4530-BA0E-50172875C6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"/>
          <p:cNvSpPr/>
          <p:nvPr/>
        </p:nvSpPr>
        <p:spPr>
          <a:xfrm>
            <a:off x="2140200" y="10008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О МЕХАНИЗМУ РЕА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642960" y="1369800"/>
            <a:ext cx="807228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 механизмом реакций понимают реальный путь, то которому протекает реакция. Реакция может протекать в одну стадию, а может быть многостадийной. Данные о механизме реакций получают от изучения скоростей (кинетических исследований). Большое значение имеет стереометрический (пространственный результат реакц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, допустим, что реакция двух вещест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отекает в одну стадию А+В=С, то скорость реакции будет определяться как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х.р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А]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В]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К – константа скорости реак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826920" y="18900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903-3EFA-4BF3-B7CB-1E5C8FBFA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20"/>
          <p:cNvSpPr/>
          <p:nvPr/>
        </p:nvSpPr>
        <p:spPr>
          <a:xfrm>
            <a:off x="714240" y="1052640"/>
            <a:ext cx="7529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идно, что участвуют 2 реагента. Если реакция идет в несколько стадий, то скорость реакции будет определяться по самой медленной стад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пример, реакция межд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и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может идти путём непосредственного взаимодейств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1214280" y="314064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в одну стадию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8"/>
          <p:cNvSpPr/>
          <p:nvPr/>
        </p:nvSpPr>
        <p:spPr>
          <a:xfrm>
            <a:off x="309600" y="3938760"/>
            <a:ext cx="86727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+  C</a:t>
            </a:r>
            <a:r>
              <a:rPr b="0" lang="el-GR" sz="2400" spc="-1" strike="noStrike" baseline="6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HO</a:t>
            </a:r>
            <a:r>
              <a:rPr b="0" lang="el-G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l-GR" sz="2400" spc="-1" strike="noStrike" baseline="60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· · ·  C · · · Br</a:t>
            </a:r>
            <a:r>
              <a:rPr b="0" lang="el-GR" sz="24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2400" spc="-1" strike="noStrike" baseline="60000">
                <a:solidFill>
                  <a:srgbClr val="ffffff"/>
                </a:solidFill>
                <a:latin typeface="Arial"/>
                <a:ea typeface="Times New Roman"/>
              </a:rPr>
              <a:t> 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       HO –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+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en-US" sz="2400" spc="-1" strike="noStrike" baseline="74000">
                <a:solidFill>
                  <a:srgbClr val="ffffff"/>
                </a:solidFill>
                <a:latin typeface="Arial"/>
                <a:ea typeface="Times New Roman"/>
              </a:rPr>
              <a:t>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2" name="Прямая со стрелкой 23"/>
          <p:cNvCxnSpPr/>
          <p:nvPr/>
        </p:nvCxnSpPr>
        <p:spPr>
          <a:xfrm>
            <a:off x="5986080" y="4167360"/>
            <a:ext cx="42948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3" name="Прямая со стрелкой 24"/>
          <p:cNvCxnSpPr/>
          <p:nvPr/>
        </p:nvCxnSpPr>
        <p:spPr>
          <a:xfrm>
            <a:off x="2571840" y="4181040"/>
            <a:ext cx="42912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584" name="Группа 25"/>
          <p:cNvGrpSpPr/>
          <p:nvPr/>
        </p:nvGrpSpPr>
        <p:grpSpPr>
          <a:xfrm>
            <a:off x="4257000" y="3581280"/>
            <a:ext cx="571680" cy="1143000"/>
            <a:chOff x="4257000" y="3581280"/>
            <a:chExt cx="571680" cy="1143000"/>
          </a:xfrm>
        </p:grpSpPr>
        <p:sp>
          <p:nvSpPr>
            <p:cNvPr id="585" name="Прямая соединительная линия 26"/>
            <p:cNvSpPr/>
            <p:nvPr/>
          </p:nvSpPr>
          <p:spPr>
            <a:xfrm>
              <a:off x="4543200" y="436572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Группа 14"/>
            <p:cNvGrpSpPr/>
            <p:nvPr/>
          </p:nvGrpSpPr>
          <p:grpSpPr>
            <a:xfrm>
              <a:off x="4257000" y="3581280"/>
              <a:ext cx="571680" cy="430200"/>
              <a:chOff x="4257000" y="3581280"/>
              <a:chExt cx="571680" cy="430200"/>
            </a:xfrm>
          </p:grpSpPr>
          <p:sp>
            <p:nvSpPr>
              <p:cNvPr id="587" name="Прямая соединительная линия 28"/>
              <p:cNvSpPr/>
              <p:nvPr/>
            </p:nvSpPr>
            <p:spPr>
              <a:xfrm>
                <a:off x="4257000" y="3581280"/>
                <a:ext cx="214200" cy="428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Прямая соединительная линия 29"/>
              <p:cNvSpPr/>
              <p:nvPr/>
            </p:nvSpPr>
            <p:spPr>
              <a:xfrm flipH="1">
                <a:off x="4623840" y="3581280"/>
                <a:ext cx="204840" cy="430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Rectangle 12"/>
          <p:cNvSpPr/>
          <p:nvPr/>
        </p:nvSpPr>
        <p:spPr>
          <a:xfrm>
            <a:off x="642960" y="4907160"/>
            <a:ext cx="80722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этом случае скорость реакции определяется выражен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х.р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[НО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СН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826920" y="20628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93A-AEDD-4341-A2C7-3C8EB91E03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1143000" y="9604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) Или  в две стадии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Группа 17"/>
          <p:cNvGrpSpPr/>
          <p:nvPr/>
        </p:nvGrpSpPr>
        <p:grpSpPr>
          <a:xfrm>
            <a:off x="1214280" y="1810440"/>
            <a:ext cx="6500880" cy="525600"/>
            <a:chOff x="1214280" y="1810440"/>
            <a:chExt cx="6500880" cy="525600"/>
          </a:xfrm>
        </p:grpSpPr>
        <p:sp>
          <p:nvSpPr>
            <p:cNvPr id="593" name="Rectangle 6"/>
            <p:cNvSpPr/>
            <p:nvPr/>
          </p:nvSpPr>
          <p:spPr>
            <a:xfrm>
              <a:off x="1214280" y="1810440"/>
              <a:ext cx="65008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1619280"/>
                  <a:tab algn="l" pos="37339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а) СН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СН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ru-RU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+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+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−   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медленно!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4" name="Прямая со стрелкой 19"/>
            <p:cNvCxnSpPr/>
            <p:nvPr/>
          </p:nvCxnSpPr>
          <p:spPr>
            <a:xfrm>
              <a:off x="2928600" y="2057400"/>
              <a:ext cx="42912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595" name="Группа 20"/>
          <p:cNvGrpSpPr/>
          <p:nvPr/>
        </p:nvGrpSpPr>
        <p:grpSpPr>
          <a:xfrm>
            <a:off x="1214280" y="2386800"/>
            <a:ext cx="6786720" cy="525600"/>
            <a:chOff x="1214280" y="2386800"/>
            <a:chExt cx="6786720" cy="525600"/>
          </a:xfrm>
        </p:grpSpPr>
        <p:sp>
          <p:nvSpPr>
            <p:cNvPr id="596" name="Rectangle 7"/>
            <p:cNvSpPr/>
            <p:nvPr/>
          </p:nvSpPr>
          <p:spPr>
            <a:xfrm>
              <a:off x="1214280" y="2386800"/>
              <a:ext cx="67867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2095560"/>
                  <a:tab algn="l" pos="37339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б) НО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: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−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+ СН</a:t>
              </a:r>
              <a:r>
                <a:rPr b="0" lang="en-US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+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Н</a:t>
              </a:r>
              <a:r>
                <a:rPr b="0" lang="en-US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Н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быстро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7" name="Прямая со стрелкой 22"/>
            <p:cNvCxnSpPr/>
            <p:nvPr/>
          </p:nvCxnSpPr>
          <p:spPr>
            <a:xfrm>
              <a:off x="3714480" y="2633760"/>
              <a:ext cx="63720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598" name="Прямоугольник 17"/>
          <p:cNvSpPr/>
          <p:nvPr/>
        </p:nvSpPr>
        <p:spPr>
          <a:xfrm>
            <a:off x="571680" y="2924280"/>
            <a:ext cx="814356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этом случае скорость реакции будет задаваться выражен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х.р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[ СН</a:t>
            </a:r>
            <a:r>
              <a:rPr b="1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риментально установлено, что скорость реакции зависит как от концентрац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[С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]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и концентрац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[НО: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ании этих данных делаем вывод, что реакция идёт в одну стадию. Изучение скорости позволяет сделать вывод о механизме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826920" y="260280"/>
            <a:ext cx="74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0E5-F516-446E-8FAC-75E54E8864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573120" y="142920"/>
            <a:ext cx="78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Группа 9"/>
          <p:cNvGrpSpPr/>
          <p:nvPr/>
        </p:nvGrpSpPr>
        <p:grpSpPr>
          <a:xfrm>
            <a:off x="3138120" y="3141720"/>
            <a:ext cx="4151880" cy="525600"/>
            <a:chOff x="3138120" y="3141720"/>
            <a:chExt cx="4151880" cy="525600"/>
          </a:xfrm>
        </p:grpSpPr>
        <p:sp>
          <p:nvSpPr>
            <p:cNvPr id="344" name="Прямоугольник 10"/>
            <p:cNvSpPr/>
            <p:nvPr/>
          </p:nvSpPr>
          <p:spPr>
            <a:xfrm>
              <a:off x="3138120" y="3141720"/>
              <a:ext cx="41518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Н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4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+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H</a:t>
              </a:r>
              <a:r>
                <a:rPr b="0" lang="ru-RU" sz="2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r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+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B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5" name="Прямая со стрелкой 11"/>
            <p:cNvCxnSpPr/>
            <p:nvPr/>
          </p:nvCxnSpPr>
          <p:spPr>
            <a:xfrm>
              <a:off x="4703400" y="3317760"/>
              <a:ext cx="50076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346" name="TextBox 7"/>
          <p:cNvSpPr/>
          <p:nvPr/>
        </p:nvSpPr>
        <p:spPr>
          <a:xfrm>
            <a:off x="3448080" y="2133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→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971640" y="21337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бщая сх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>
            <a:off x="1116000" y="50133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бщая сх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970920" y="1268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Реакции замещ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10"/>
          <p:cNvSpPr/>
          <p:nvPr/>
        </p:nvSpPr>
        <p:spPr>
          <a:xfrm>
            <a:off x="1476360" y="314172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1185840" y="400356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Реакции отщепления (элиминирования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31"/>
          <p:cNvGrpSpPr/>
          <p:nvPr/>
        </p:nvGrpSpPr>
        <p:grpSpPr>
          <a:xfrm>
            <a:off x="3627360" y="4894200"/>
            <a:ext cx="4473720" cy="1104480"/>
            <a:chOff x="3627360" y="4894200"/>
            <a:chExt cx="4473720" cy="1104480"/>
          </a:xfrm>
        </p:grpSpPr>
        <p:sp>
          <p:nvSpPr>
            <p:cNvPr id="353" name="TextBox 2"/>
            <p:cNvSpPr/>
            <p:nvPr/>
          </p:nvSpPr>
          <p:spPr>
            <a:xfrm>
              <a:off x="3627360" y="5035680"/>
              <a:ext cx="447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–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–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–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=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+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Y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Box 5"/>
            <p:cNvSpPr/>
            <p:nvPr/>
          </p:nvSpPr>
          <p:spPr>
            <a:xfrm>
              <a:off x="3821040" y="5538960"/>
              <a:ext cx="11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X    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"/>
            <p:cNvSpPr/>
            <p:nvPr/>
          </p:nvSpPr>
          <p:spPr>
            <a:xfrm>
              <a:off x="3995640" y="489420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>
              <a:off x="4546440" y="489420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>
              <a:off x="4008600" y="5407200"/>
              <a:ext cx="0" cy="21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3"/>
            <p:cNvSpPr/>
            <p:nvPr/>
          </p:nvSpPr>
          <p:spPr>
            <a:xfrm>
              <a:off x="4559400" y="539892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9" name="Group 24"/>
            <p:cNvGrpSpPr/>
            <p:nvPr/>
          </p:nvGrpSpPr>
          <p:grpSpPr>
            <a:xfrm>
              <a:off x="5580000" y="5046840"/>
              <a:ext cx="228600" cy="435600"/>
              <a:chOff x="5580000" y="5046840"/>
              <a:chExt cx="228600" cy="435600"/>
            </a:xfrm>
          </p:grpSpPr>
          <p:sp>
            <p:nvSpPr>
              <p:cNvPr id="360" name="Line 25"/>
              <p:cNvSpPr/>
              <p:nvPr/>
            </p:nvSpPr>
            <p:spPr>
              <a:xfrm>
                <a:off x="5580000" y="5046840"/>
                <a:ext cx="215640" cy="144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6"/>
              <p:cNvSpPr/>
              <p:nvPr/>
            </p:nvSpPr>
            <p:spPr>
              <a:xfrm flipV="1">
                <a:off x="5592600" y="5338080"/>
                <a:ext cx="216000" cy="14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659280" y="5038560"/>
              <a:ext cx="228600" cy="436680"/>
              <a:chOff x="6659280" y="5038560"/>
              <a:chExt cx="228600" cy="436680"/>
            </a:xfrm>
          </p:grpSpPr>
          <p:sp>
            <p:nvSpPr>
              <p:cNvPr id="363" name="Line 28"/>
              <p:cNvSpPr/>
              <p:nvPr/>
            </p:nvSpPr>
            <p:spPr>
              <a:xfrm flipH="1">
                <a:off x="6672240" y="5038560"/>
                <a:ext cx="215640" cy="14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9"/>
              <p:cNvSpPr/>
              <p:nvPr/>
            </p:nvSpPr>
            <p:spPr>
              <a:xfrm flipH="1" flipV="1">
                <a:off x="6659280" y="5330520"/>
                <a:ext cx="216000" cy="14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Line 30"/>
            <p:cNvSpPr/>
            <p:nvPr/>
          </p:nvSpPr>
          <p:spPr>
            <a:xfrm>
              <a:off x="5076720" y="530064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967-D8D8-43F2-A25F-A8AE8B702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23"/>
          <p:cNvSpPr/>
          <p:nvPr/>
        </p:nvSpPr>
        <p:spPr>
          <a:xfrm>
            <a:off x="1835280" y="1844640"/>
            <a:ext cx="5457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90640"/>
                <a:tab algn="ctr" pos="34480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= СН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Прямая со стрелкой 6"/>
          <p:cNvCxnSpPr/>
          <p:nvPr/>
        </p:nvCxnSpPr>
        <p:spPr>
          <a:xfrm>
            <a:off x="3784320" y="2071800"/>
            <a:ext cx="5007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8" name="Rectangle 1"/>
          <p:cNvSpPr/>
          <p:nvPr/>
        </p:nvSpPr>
        <p:spPr>
          <a:xfrm>
            <a:off x="714240" y="314424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90640"/>
                <a:tab algn="ctr" pos="34480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перегруппиров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37"/>
          <p:cNvGrpSpPr/>
          <p:nvPr/>
        </p:nvGrpSpPr>
        <p:grpSpPr>
          <a:xfrm>
            <a:off x="571680" y="3889440"/>
            <a:ext cx="3279600" cy="1294560"/>
            <a:chOff x="571680" y="3889440"/>
            <a:chExt cx="3279600" cy="1294560"/>
          </a:xfrm>
        </p:grpSpPr>
        <p:sp>
          <p:nvSpPr>
            <p:cNvPr id="370" name="Прямоугольник 2"/>
            <p:cNvSpPr/>
            <p:nvPr/>
          </p:nvSpPr>
          <p:spPr>
            <a:xfrm>
              <a:off x="1761120" y="43401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=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оугольник 3"/>
            <p:cNvSpPr/>
            <p:nvPr/>
          </p:nvSpPr>
          <p:spPr>
            <a:xfrm>
              <a:off x="1254600" y="388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Прямоугольник 4"/>
            <p:cNvSpPr/>
            <p:nvPr/>
          </p:nvSpPr>
          <p:spPr>
            <a:xfrm>
              <a:off x="2708280" y="38894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Прямоугольник 5"/>
            <p:cNvSpPr/>
            <p:nvPr/>
          </p:nvSpPr>
          <p:spPr>
            <a:xfrm>
              <a:off x="571680" y="4724280"/>
              <a:ext cx="112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O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Прямоугольник 6"/>
            <p:cNvSpPr/>
            <p:nvPr/>
          </p:nvSpPr>
          <p:spPr>
            <a:xfrm>
              <a:off x="280080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Прямая соединительная линия 18"/>
            <p:cNvSpPr/>
            <p:nvPr/>
          </p:nvSpPr>
          <p:spPr>
            <a:xfrm flipV="1">
              <a:off x="2597040" y="42037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19"/>
            <p:cNvSpPr/>
            <p:nvPr/>
          </p:nvSpPr>
          <p:spPr>
            <a:xfrm flipV="1">
              <a:off x="1611360" y="46609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20"/>
            <p:cNvSpPr/>
            <p:nvPr/>
          </p:nvSpPr>
          <p:spPr>
            <a:xfrm>
              <a:off x="2617920" y="4681440"/>
              <a:ext cx="225360" cy="2415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21"/>
            <p:cNvSpPr/>
            <p:nvPr/>
          </p:nvSpPr>
          <p:spPr>
            <a:xfrm>
              <a:off x="1630440" y="4200480"/>
              <a:ext cx="22536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39"/>
          <p:cNvGrpSpPr/>
          <p:nvPr/>
        </p:nvGrpSpPr>
        <p:grpSpPr>
          <a:xfrm>
            <a:off x="5076720" y="3832200"/>
            <a:ext cx="3249360" cy="1385280"/>
            <a:chOff x="5076720" y="3832200"/>
            <a:chExt cx="3249360" cy="138528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6218640" y="43401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=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оугольник 17"/>
            <p:cNvSpPr/>
            <p:nvPr/>
          </p:nvSpPr>
          <p:spPr>
            <a:xfrm>
              <a:off x="7138800" y="3832200"/>
              <a:ext cx="11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Прямоугольник 18"/>
            <p:cNvSpPr/>
            <p:nvPr/>
          </p:nvSpPr>
          <p:spPr>
            <a:xfrm>
              <a:off x="5076720" y="385776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O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Прямоугольник 19"/>
            <p:cNvSpPr/>
            <p:nvPr/>
          </p:nvSpPr>
          <p:spPr>
            <a:xfrm>
              <a:off x="7275960" y="475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Прямая соединительная линия 26"/>
            <p:cNvSpPr/>
            <p:nvPr/>
          </p:nvSpPr>
          <p:spPr>
            <a:xfrm flipV="1">
              <a:off x="7059240" y="4177800"/>
              <a:ext cx="223920" cy="2415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27"/>
            <p:cNvSpPr/>
            <p:nvPr/>
          </p:nvSpPr>
          <p:spPr>
            <a:xfrm flipV="1">
              <a:off x="6068880" y="46609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28"/>
            <p:cNvSpPr/>
            <p:nvPr/>
          </p:nvSpPr>
          <p:spPr>
            <a:xfrm>
              <a:off x="7094160" y="4700520"/>
              <a:ext cx="22392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29"/>
            <p:cNvSpPr/>
            <p:nvPr/>
          </p:nvSpPr>
          <p:spPr>
            <a:xfrm>
              <a:off x="6087240" y="4200480"/>
              <a:ext cx="223560" cy="241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оугольник 33"/>
            <p:cNvSpPr/>
            <p:nvPr/>
          </p:nvSpPr>
          <p:spPr>
            <a:xfrm>
              <a:off x="5712120" y="475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Прямоугольник 20"/>
          <p:cNvSpPr/>
          <p:nvPr/>
        </p:nvSpPr>
        <p:spPr>
          <a:xfrm>
            <a:off x="1315080" y="551664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-изо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21"/>
          <p:cNvSpPr/>
          <p:nvPr/>
        </p:nvSpPr>
        <p:spPr>
          <a:xfrm>
            <a:off x="5941080" y="551664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ис-изо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36"/>
          <p:cNvGrpSpPr/>
          <p:nvPr/>
        </p:nvGrpSpPr>
        <p:grpSpPr>
          <a:xfrm>
            <a:off x="4066920" y="4605480"/>
            <a:ext cx="822960" cy="137880"/>
            <a:chOff x="4066920" y="4605480"/>
            <a:chExt cx="822960" cy="137880"/>
          </a:xfrm>
        </p:grpSpPr>
        <p:cxnSp>
          <p:nvCxnSpPr>
            <p:cNvPr id="392" name="Прямая со стрелкой 33"/>
            <p:cNvCxnSpPr/>
            <p:nvPr/>
          </p:nvCxnSpPr>
          <p:spPr>
            <a:xfrm>
              <a:off x="4067280" y="4605480"/>
              <a:ext cx="82296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3" name="Прямая со стрелкой 34"/>
            <p:cNvCxnSpPr/>
            <p:nvPr/>
          </p:nvCxnSpPr>
          <p:spPr>
            <a:xfrm flipH="1" flipV="1">
              <a:off x="4066920" y="4741560"/>
              <a:ext cx="82296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394" name="Rectangle 35"/>
          <p:cNvSpPr/>
          <p:nvPr/>
        </p:nvSpPr>
        <p:spPr>
          <a:xfrm>
            <a:off x="1042200" y="126828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еакции отщепления (пример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42"/>
          <p:cNvGrpSpPr/>
          <p:nvPr/>
        </p:nvGrpSpPr>
        <p:grpSpPr>
          <a:xfrm>
            <a:off x="2174040" y="2217600"/>
            <a:ext cx="1532520" cy="629640"/>
            <a:chOff x="2174040" y="2217600"/>
            <a:chExt cx="1532520" cy="629640"/>
          </a:xfrm>
        </p:grpSpPr>
        <p:sp>
          <p:nvSpPr>
            <p:cNvPr id="396" name="Прямоугольник 88"/>
            <p:cNvSpPr/>
            <p:nvPr/>
          </p:nvSpPr>
          <p:spPr>
            <a:xfrm>
              <a:off x="2174040" y="2387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оугольник 88"/>
            <p:cNvSpPr/>
            <p:nvPr/>
          </p:nvSpPr>
          <p:spPr>
            <a:xfrm>
              <a:off x="3068640" y="2362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0"/>
            <p:cNvSpPr/>
            <p:nvPr/>
          </p:nvSpPr>
          <p:spPr>
            <a:xfrm>
              <a:off x="2379600" y="2230560"/>
              <a:ext cx="0" cy="21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3255840" y="2217600"/>
              <a:ext cx="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TextBox 3"/>
          <p:cNvSpPr/>
          <p:nvPr/>
        </p:nvSpPr>
        <p:spPr>
          <a:xfrm>
            <a:off x="573120" y="230040"/>
            <a:ext cx="78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DF2-4D8F-4151-A732-7832CC9CF2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755640" y="1779840"/>
            <a:ext cx="77770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замещения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характерны для всех классов органических соедин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соединени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характерны только для соединений с кратной связ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акции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отщеплени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характерны только для соединений с сильно     электроотрицательными группировкам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(HCI,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573120" y="344520"/>
            <a:ext cx="7886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454c3"/>
                </a:solidFill>
                <a:latin typeface="Arial"/>
              </a:rPr>
              <a:t>КЛАССИФИКАЦИЯ РЕАКЦ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ИЗМЕНЕНИЮ ЧИСЛА ЧАСТИЦ В ХОДЕ РЕАКЦИЙ</a:t>
            </a:r>
            <a:r>
              <a:rPr b="1" lang="ru-RU" sz="2000" spc="-1" strike="noStrike">
                <a:solidFill>
                  <a:srgbClr val="9454c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418200" y="131616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имеч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A5F-D7D7-4FCE-8EAD-E7251B400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2340000" y="18435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ИПЫ РЕАГЕН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2050920" y="242316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 Электрофильные (Е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050920" y="328824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 Нуклеофильны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u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2106720" y="4223160"/>
            <a:ext cx="34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 Радикальны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1581120" y="303120"/>
            <a:ext cx="53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КЛАССИФИКАЦИЯ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1476360" y="765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по электронной природе реаг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402-16AA-4F62-8D4D-C0CFD3CBB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1908000" y="69120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ЭЛЕКТРОФИЛЬНЫЕ РЕАГ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3780000" y="110016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лектрофил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1042920" y="515772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филы можно подразделить на сильные и слаб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42920" y="188136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фил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частицы, обладающие повышенным сродством к электрону или положительно заряженным центр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2771640" y="1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</a:rPr>
              <a:t>ТИПЫ РЕАГ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971640" y="33940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ним относятся заряженные частицы (катионы) или нейтральные частицы, обладающие повышенным сродством к электр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528-7C81-46BD-995E-075989368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2484360" y="1879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ТИПЫ РЕАГ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755640" y="1557360"/>
            <a:ext cx="75614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ьны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gCl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другие частицы, которые нейтральные по заряду, но содержат центры с повышенным сродством к электрону (например, атомы элементов, содержащие вакантные орбитали в своей валентной оболочк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аким центром является атом алюминия,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F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томы железа, сурьмы, бора и цинка, соответств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908000" y="81000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1. ЭЛЕКТРОФИЛЬНЫЕ РЕАГ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946-32CF-4F79-B7B7-A9F009778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3"/>
          <p:cNvSpPr/>
          <p:nvPr/>
        </p:nvSpPr>
        <p:spPr>
          <a:xfrm>
            <a:off x="357120" y="1429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454c3"/>
                </a:solidFill>
                <a:latin typeface="Arial"/>
              </a:rPr>
              <a:t>КЛАССИФИКАЦИЯ РЕАКЦИЙ И РЕАГЕНТОВ В ОРГАНИЧЕСКОЙ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6573960" y="44416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62"/>
          <p:cNvSpPr/>
          <p:nvPr/>
        </p:nvSpPr>
        <p:spPr>
          <a:xfrm>
            <a:off x="6831000" y="422748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5"/>
          <p:cNvSpPr/>
          <p:nvPr/>
        </p:nvSpPr>
        <p:spPr>
          <a:xfrm>
            <a:off x="611280" y="3849840"/>
            <a:ext cx="74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   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  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6"/>
          <p:cNvSpPr/>
          <p:nvPr/>
        </p:nvSpPr>
        <p:spPr>
          <a:xfrm>
            <a:off x="5457960" y="49039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лористый аце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7"/>
          <p:cNvSpPr/>
          <p:nvPr/>
        </p:nvSpPr>
        <p:spPr>
          <a:xfrm>
            <a:off x="828360" y="442440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58"/>
          <p:cNvSpPr/>
          <p:nvPr/>
        </p:nvSpPr>
        <p:spPr>
          <a:xfrm>
            <a:off x="3022200" y="43527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лористый э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1979640" y="6912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54c3"/>
                </a:solidFill>
                <a:latin typeface="Arial"/>
                <a:ea typeface="Times New Roman"/>
              </a:rPr>
              <a:t>ЭЛЕКТРОФИЛЬНЫЕ РЕАГЕ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0"/>
          <p:cNvSpPr/>
          <p:nvPr/>
        </p:nvSpPr>
        <p:spPr>
          <a:xfrm>
            <a:off x="900000" y="158904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абы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олекулы, обладающие небольшим сродством к электрону, которое может быть повышено образованием комплексов с сильными электрофил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4BB-2FAD-4DC4-8AC2-37CF3F8F4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23:38Z</dcterms:created>
  <dc:creator>User</dc:creator>
  <dc:description/>
  <dc:language>en-US</dc:language>
  <cp:lastModifiedBy>Student</cp:lastModifiedBy>
  <dcterms:modified xsi:type="dcterms:W3CDTF">2013-05-03T09:54:19Z</dcterms:modified>
  <cp:revision>439</cp:revision>
  <dc:subject/>
  <dc:title>Слайд 1</dc:title>
</cp:coreProperties>
</file>